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B20-D962-4823-82F0-F7A33C0D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453-32DD-4850-8B39-111F8617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A839-292F-4D25-9408-5DF81966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DB8-B4A8-4A2D-A0A9-94C6FE45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446-1988-4077-8B13-41589F87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17DE-8D57-43A9-8B68-66EB7924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4AF-0975-44C2-9024-A8C98540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4DF-1C8E-4D5F-B5B0-7B929868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F19B-D039-48D0-A834-DFAC5641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403-E1A8-4386-B85D-47CA8112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D3C9-ABD3-4EFC-AD6A-26934AA9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5E2-7507-4246-B067-087F175E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699C-80EF-4B31-AD1E-192B95353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 automobiles – mini-projet #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3716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hoix 1- une affiche (poster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Choisir un automobile entre les ann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ées 1920-1960. Presenter sous la forme d’une affiche les qualités esthéthiques et practiques.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  <a:ea typeface="Calibri"/>
              </a:rPr>
              <a:t>Recherhe à faire:  la vitesse (speed), la puissance de moteur (power of motor), l’efficacité (fuel efficiency), et les qualités esthétiques (attractive qualities).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Choix 2- Diagramme Venn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 Choisir  deux automobiles, une de 1924 et une de 2013.  Noter les différences et les ressemblances dans un diagramme Venn.  N’oublie pas d’avoir un photo de chaque automobi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Choix 3- Ligne de temps (timeline)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 1900- 2013.  Noter les ressemblances et les différences pendant des années.  Tu dois avoir au moins 10 automobiles sur ton ligne de temp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13:33:29Z</dcterms:created>
  <dc:creator>ED18</dc:creator>
  <dc:description/>
  <dc:language>en-US</dc:language>
  <cp:lastModifiedBy>ED18</cp:lastModifiedBy>
  <dcterms:modified xsi:type="dcterms:W3CDTF">2012-10-10T12:15:19Z</dcterms:modified>
  <cp:revision>6</cp:revision>
  <dc:subject/>
  <dc:title>Les automobiles - projet</dc:title>
</cp:coreProperties>
</file>